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8EF-EC2C-49FA-AF00-B28DB1CC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00C-773C-4B5C-A1AA-128D2B32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7C8-C6A2-423D-BA4F-3A11B643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EE0-3146-49DD-8CF8-C9E4FA5D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A2398-F5AE-44D8-B7A5-A4E8F7DA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87FF2-2B7D-4D23-9070-C4DBE18D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ADB0F-ABDC-4079-A98E-2B587193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BF129-19CD-429D-8A1E-8950B585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667B8-4342-4BE2-B18A-22830419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0E4A5-7041-4FF6-B20D-56666F7E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DCFEA-3FD1-4A28-8FEA-0332F859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0FA4-4101-4050-ABEA-47DEB2E8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9F14E-ADDE-4A26-B751-2B146EAC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A6AA4-1417-4878-BEBE-58FB1115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CBC88-EF43-42C4-A3B2-3CAC5DAB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ABD55-21EA-49E3-AB63-3F0C6AFF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8A87A-D710-4136-A329-56D62EBB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E38-3330-43A0-A682-19B5E173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10A1-593E-4F17-B9BF-69ABF407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368-E042-411C-BA10-E1B8295B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61E-C1B4-43D2-893D-331FC184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3C6-8C24-43C1-8CDC-28BFED24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305-A3BC-4B4F-8E64-BF8340B6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62D-BE72-4EC5-833B-E8F9531C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81A7-008A-4430-8780-558D12F00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5918-3609-4827-9936-D337E3312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kayla tirabass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362320" y="2590920"/>
            <a:ext cx="4381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La  Rutina de Av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 se mira en la espejo. Hace muchas cosas mientras en el espejo. Se cepilla el pelo, se cepilla los dientes,y se maquill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53160" y="3429000"/>
            <a:ext cx="1828800" cy="1065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295280" y="685800"/>
            <a:ext cx="1524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Mirars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 se acuesta a las diez y media durante la semana. En el fin de semana ella acuesta a las doce. Se duerme en la ca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57880" y="3165480"/>
            <a:ext cx="2619360" cy="1589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1066680" y="762120"/>
            <a:ext cx="1981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costarse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Apple Chanc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pple Chancery"/>
              </a:rPr>
              <a:t>Durante la semana se despierta</a:t>
            </a:r>
            <a:r>
              <a:rPr b="1" lang="en-US" sz="1600" spc="-1" strike="noStrike">
                <a:solidFill>
                  <a:srgbClr val="ffffff"/>
                </a:solidFill>
                <a:latin typeface="Apple Chancery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pple Chancery"/>
              </a:rPr>
              <a:t>a las seis y media. Ava esta muy cansado. En el fin de semana se despierta a las diez y medi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57880" y="3162240"/>
            <a:ext cx="2619360" cy="1600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90720" y="685800"/>
            <a:ext cx="2419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spertarse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 se lava la cara. Ella usa un tipo de jabon espe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97440" y="2766960"/>
            <a:ext cx="1741680" cy="2390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85800" y="685800"/>
            <a:ext cx="212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varse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 se b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on burbuja . Ella se lava el pelo con el cham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32400" y="3121200"/>
            <a:ext cx="2468520" cy="1677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762120" y="685800"/>
            <a:ext cx="1647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narse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ntique Olive Co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ntique Olive Compact"/>
              </a:rPr>
              <a:t>Ava se pone la ropa. Es muy dificil decidir que ponerse. Por lo general ella lleva la camisa y el blue jean. De vez en cuando Ava lleva  pantalones de yoga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691240" y="2898720"/>
            <a:ext cx="1952640" cy="2124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066680" y="685800"/>
            <a:ext cx="2934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onerse la rop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pple Chanc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pple Chancery"/>
              </a:rPr>
              <a:t>Ava se maquilla en los ojos.  Se pone el mascara y lapiz de ojos.  Se toma a las veinte minutos.  Se Mira en el espej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32400" y="3121200"/>
            <a:ext cx="2468520" cy="1677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838080" y="685800"/>
            <a:ext cx="227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quillar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cepilla el pelo.El pelo es muy largo y recto. El pelo es more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02360" y="1905120"/>
            <a:ext cx="2927160" cy="4114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838080" y="609480"/>
            <a:ext cx="2657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pillars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 se desayuna en la cocina. Se desayuna con sus hermanas. Se desayuna el pan tostado. le gusta un pequeno desayu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810400" y="2751120"/>
            <a:ext cx="1715760" cy="2422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838080" y="685800"/>
            <a:ext cx="3362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sayunarse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 se cepilla los dientes despues se desayuna. Ella usa un tubo de pa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13240" y="3192480"/>
            <a:ext cx="2706840" cy="1538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1143000" y="533520"/>
            <a:ext cx="3581280" cy="12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El cepillo de dien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4:32:01Z</dcterms:created>
  <dc:creator>tirabassimik</dc:creator>
  <dc:description/>
  <dc:language>en-US</dc:language>
  <cp:lastModifiedBy>tirabassimik</cp:lastModifiedBy>
  <dcterms:modified xsi:type="dcterms:W3CDTF">2012-04-05T13:21:37Z</dcterms:modified>
  <cp:revision>9</cp:revision>
  <dc:subject/>
  <dc:title>Me Rutina durante la semana </dc:title>
</cp:coreProperties>
</file>